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3E95-75EA-4A11-821A-CAB66D42A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86B8-65A3-4894-8C5E-8386B6A8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90AD-1EC8-41A3-8F3F-19F0BD7D4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911E-12DC-4B84-A9AF-E0DCC581D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EF67-3EE4-4BEB-9860-DF8B4B4B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7C61-0885-42FE-A420-760B86C9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7113-EBCB-40D6-99F9-9344A4DC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D368-96C1-4637-8FAD-DD024BED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15CF-D5FD-4CE0-8F69-77A95986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1EBE-8698-4CD7-ABB6-248F1E84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D875-DCDD-4B48-85EF-B5C65378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D268-493D-40D2-9667-889D956C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A798-2088-4D9E-B4EC-9A6CC6C56F8F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heanimationblog.com/2007/07/11/simpsons-family-guy-season-premiere-dates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alu.ua.es/j/jmn4/simpson.htm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orethings.com/fan/simpsons/photo_gallery001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snoot.org/f/a/s/wuss/cdetail/35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HE MA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HE IS F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is?4TCYmPqL9hhgOjq0B5J-X_EYR8OgztQsDXWaPvOxkI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233880" cy="3284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is?D25NSsBjpGUpcclN4ODMvoc2P4FfgkIwYbYmNRjhOc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08360" y="765000"/>
            <a:ext cx="4824360" cy="12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is?-uVIMrz5r5JyC45zQ20yVlK1boxT_iYi9lXDOZVkcx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400720" cy="40514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684360" y="4221000"/>
            <a:ext cx="446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onuts mmmmmmmmmmmmmmmmmmmmmmmmmmmmmmmmmm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homer2"/>
          <p:cNvPicPr/>
          <p:nvPr/>
        </p:nvPicPr>
        <p:blipFill>
          <a:blip r:embed="rId1"/>
          <a:stretch/>
        </p:blipFill>
        <p:spPr>
          <a:xfrm>
            <a:off x="0" y="0"/>
            <a:ext cx="2973240" cy="4416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is?VOcT4eHwRs6LioX16qCCl9_ZICopHhJcukwSseq-4X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87640" y="0"/>
            <a:ext cx="1487520" cy="1700280"/>
          </a:xfrm>
          <a:prstGeom prst="rect">
            <a:avLst/>
          </a:prstGeom>
          <a:ln w="0">
            <a:noFill/>
          </a:ln>
        </p:spPr>
      </p:pic>
      <p:sp>
        <p:nvSpPr>
          <p:cNvPr id="49" name="WordArt 8"/>
          <p:cNvSpPr txBox="1"/>
          <p:nvPr/>
        </p:nvSpPr>
        <p:spPr>
          <a:xfrm>
            <a:off x="3276720" y="2421000"/>
            <a:ext cx="275112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D`OH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50" name="Picture 10" descr="is?ZMZP9CAarwzyJKLwifZrorlBZ1L3qy-QOKiywBEOat4"/>
          <p:cNvPicPr/>
          <p:nvPr/>
        </p:nvPicPr>
        <p:blipFill>
          <a:blip r:embed="rId4"/>
          <a:stretch/>
        </p:blipFill>
        <p:spPr>
          <a:xfrm>
            <a:off x="4500720" y="0"/>
            <a:ext cx="1670040" cy="2349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is?f8aR78haGzeZAHoKaaVGYMG84vH0OWE9hctrNOFPXRM"/>
          <p:cNvPicPr/>
          <p:nvPr/>
        </p:nvPicPr>
        <p:blipFill>
          <a:blip r:embed="rId5"/>
          <a:stretch/>
        </p:blipFill>
        <p:spPr>
          <a:xfrm>
            <a:off x="6156360" y="0"/>
            <a:ext cx="380376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is?I2eT1Eb9oJ_FZssgzQRAOLzvKGe8tbUFQ7Sz7OIdk-w"/>
          <p:cNvPicPr/>
          <p:nvPr/>
        </p:nvPicPr>
        <p:blipFill>
          <a:blip r:embed="rId6"/>
          <a:stretch/>
        </p:blipFill>
        <p:spPr>
          <a:xfrm>
            <a:off x="0" y="4437000"/>
            <a:ext cx="19670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is?UH2-oAAojRC1ANVsJe-vmG8eeA6dy-GuQO5rwQiUuXM"/>
          <p:cNvPicPr/>
          <p:nvPr/>
        </p:nvPicPr>
        <p:blipFill>
          <a:blip r:embed="rId1"/>
          <a:stretch/>
        </p:blipFill>
        <p:spPr>
          <a:xfrm>
            <a:off x="4095720" y="2819520"/>
            <a:ext cx="952560" cy="1218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Homer Simpson - Lingerie"/>
          <p:cNvPicPr/>
          <p:nvPr/>
        </p:nvPicPr>
        <p:blipFill>
          <a:blip r:embed="rId2"/>
          <a:stretch/>
        </p:blipFill>
        <p:spPr>
          <a:xfrm>
            <a:off x="0" y="0"/>
            <a:ext cx="1009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23:48:57Z</dcterms:created>
  <dc:creator>Bannockburn</dc:creator>
  <dc:description/>
  <dc:language>en-US</dc:language>
  <cp:lastModifiedBy>Aaron Down</cp:lastModifiedBy>
  <dcterms:modified xsi:type="dcterms:W3CDTF">2009-03-28T07:09:40Z</dcterms:modified>
  <cp:revision>2</cp:revision>
  <dc:subject/>
  <dc:title>THE MAN </dc:title>
</cp:coreProperties>
</file>