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0C765-4063-4AB9-9375-A833E12CC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C203-660C-4EF3-BB59-BC694B6A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9C1D-D84F-442E-B65A-F60F93489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FB41-D8C9-4A1B-AA09-ABD2B93A3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D4665-BB39-4FD4-B2F5-6FA09932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5E81-B897-4C55-BDA0-5CCA41F74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DC41-296B-42B8-BEE2-9E4FECD0C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27E2-C35D-46D3-A04C-5FF1EC43C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AE9B-DAC2-457F-91C3-3A1B18E3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726F-3A15-4B90-B591-7EDBF3D3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0382D-F795-4F05-9BB1-A4679176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FB1E-C0A5-40DA-96F9-84016A60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3206-AD76-4841-B126-3B39D5575F8C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heanimationblog.com/2007/07/11/simpsons-family-guy-season-premiere-dates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alu.ua.es/j/jmn4/simpson.htm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orethings.com/fan/simpsons/photo_gallery001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snoot.org/f/a/s/wuss/cdetail/35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THE MA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HE IS F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is?4TCYmPqL9hhgOjq0B5J-X_EYR8OgztQsDXWaPvOxkI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233880" cy="3284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is?D25NSsBjpGUpcclN4ODMvoc2P4FfgkIwYbYmNRjhOc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08360" y="765000"/>
            <a:ext cx="4824360" cy="12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is?-uVIMrz5r5JyC45zQ20yVlK1boxT_iYi9lXDOZVkcx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400720" cy="40514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684360" y="4221000"/>
            <a:ext cx="446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onuts mmmmmmmmmmmmmmmmmmmmmmmmmmmmmmmmmm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homer2"/>
          <p:cNvPicPr/>
          <p:nvPr/>
        </p:nvPicPr>
        <p:blipFill>
          <a:blip r:embed="rId1"/>
          <a:stretch/>
        </p:blipFill>
        <p:spPr>
          <a:xfrm>
            <a:off x="0" y="0"/>
            <a:ext cx="2973240" cy="4416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is?VOcT4eHwRs6LioX16qCCl9_ZICopHhJcukwSseq-4X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87640" y="0"/>
            <a:ext cx="1487520" cy="1700280"/>
          </a:xfrm>
          <a:prstGeom prst="rect">
            <a:avLst/>
          </a:prstGeom>
          <a:ln w="0">
            <a:noFill/>
          </a:ln>
        </p:spPr>
      </p:pic>
      <p:sp>
        <p:nvSpPr>
          <p:cNvPr id="49" name="WordArt 8"/>
          <p:cNvSpPr txBox="1"/>
          <p:nvPr/>
        </p:nvSpPr>
        <p:spPr>
          <a:xfrm>
            <a:off x="3276720" y="2421000"/>
            <a:ext cx="275112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D`OH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50" name="Picture 10" descr="is?ZMZP9CAarwzyJKLwifZrorlBZ1L3qy-QOKiywBEOat4"/>
          <p:cNvPicPr/>
          <p:nvPr/>
        </p:nvPicPr>
        <p:blipFill>
          <a:blip r:embed="rId4"/>
          <a:stretch/>
        </p:blipFill>
        <p:spPr>
          <a:xfrm>
            <a:off x="4500720" y="0"/>
            <a:ext cx="1670040" cy="2349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is?f8aR78haGzeZAHoKaaVGYMG84vH0OWE9hctrNOFPXRM"/>
          <p:cNvPicPr/>
          <p:nvPr/>
        </p:nvPicPr>
        <p:blipFill>
          <a:blip r:embed="rId5"/>
          <a:stretch/>
        </p:blipFill>
        <p:spPr>
          <a:xfrm>
            <a:off x="6156360" y="0"/>
            <a:ext cx="380376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is?I2eT1Eb9oJ_FZssgzQRAOLzvKGe8tbUFQ7Sz7OIdk-w"/>
          <p:cNvPicPr/>
          <p:nvPr/>
        </p:nvPicPr>
        <p:blipFill>
          <a:blip r:embed="rId6"/>
          <a:stretch/>
        </p:blipFill>
        <p:spPr>
          <a:xfrm>
            <a:off x="0" y="4437000"/>
            <a:ext cx="19670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is?UH2-oAAojRC1ANVsJe-vmG8eeA6dy-GuQO5rwQiUuXM"/>
          <p:cNvPicPr/>
          <p:nvPr/>
        </p:nvPicPr>
        <p:blipFill>
          <a:blip r:embed="rId1"/>
          <a:stretch/>
        </p:blipFill>
        <p:spPr>
          <a:xfrm>
            <a:off x="4095720" y="2819520"/>
            <a:ext cx="952560" cy="1218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Homer Simpson - Lingerie"/>
          <p:cNvPicPr/>
          <p:nvPr/>
        </p:nvPicPr>
        <p:blipFill>
          <a:blip r:embed="rId2"/>
          <a:stretch/>
        </p:blipFill>
        <p:spPr>
          <a:xfrm>
            <a:off x="0" y="0"/>
            <a:ext cx="10098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23:48:57Z</dcterms:created>
  <dc:creator>Bannockburn</dc:creator>
  <dc:description/>
  <dc:language>en-US</dc:language>
  <cp:lastModifiedBy>Aaron Down</cp:lastModifiedBy>
  <dcterms:modified xsi:type="dcterms:W3CDTF">2009-03-28T07:09:40Z</dcterms:modified>
  <cp:revision>2</cp:revision>
  <dc:subject/>
  <dc:title>THE MAN </dc:title>
</cp:coreProperties>
</file>