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51451-22C5-428E-B9AB-30F0E2029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07CB9-2647-4913-9023-4EB273A4E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17D7-618A-4EDF-9A86-20AF21A66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BA8-2812-4A13-BAA3-FE4C619F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55D7-61CF-467D-AF2D-CD16FAC5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EA14-F528-49D0-9C2E-20611807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400D-B15E-48D8-A9AE-D3B5C1ACC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81B6-CFC9-47B5-9056-93A09146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B9DD-1372-4181-A305-821562577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8E52-1A74-4B76-A2D4-62A01BE39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5CA9-AEDC-4953-A566-1E3BC175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0DB2-A1E6-4CC0-958D-A7752BFE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62D1-1FE5-4541-8D28-37A7C3ECAFC9}" type="slidenum">
              <a:rPr b="0" lang="en-A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theanimationblog.com/2007/07/11/simpsons-family-guy-season-premiere-dates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alu.ua.es/j/jmn4/simpson.htm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morethings.com/fan/simpsons/photo_gallery001.htm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noot.org/f/a/s/wuss/cdetail/35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000000"/>
                </a:solidFill>
                <a:latin typeface="Arial"/>
              </a:rPr>
              <a:t>THE MA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HE IS F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is?4TCYmPqL9hhgOjq0B5J-X_EYR8OgztQsDXWaPvOxkI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33880" cy="3284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is?D25NSsBjpGUpcclN4ODMvoc2P4FfgkIwYbYmNRjhOc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708360" y="765000"/>
            <a:ext cx="4824360" cy="12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s?-uVIMrz5r5JyC45zQ20yVlK1boxT_iYi9lXDOZVkcx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400720" cy="4051440"/>
          </a:xfrm>
          <a:prstGeom prst="rect">
            <a:avLst/>
          </a:prstGeom>
          <a:ln w="0">
            <a:noFill/>
          </a:ln>
        </p:spPr>
      </p:pic>
      <p:sp>
        <p:nvSpPr>
          <p:cNvPr id="46" name="Text Box 6"/>
          <p:cNvSpPr/>
          <p:nvPr/>
        </p:nvSpPr>
        <p:spPr>
          <a:xfrm>
            <a:off x="684360" y="4221000"/>
            <a:ext cx="446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Donuts mmmmmmmmmmmmmmmmmmmmmmmmmmmmmmmmmmm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homer2"/>
          <p:cNvPicPr/>
          <p:nvPr/>
        </p:nvPicPr>
        <p:blipFill>
          <a:blip r:embed="rId1"/>
          <a:stretch/>
        </p:blipFill>
        <p:spPr>
          <a:xfrm>
            <a:off x="0" y="0"/>
            <a:ext cx="2973240" cy="44164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is?VOcT4eHwRs6LioX16qCCl9_ZICopHhJcukwSseq-4Xk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987640" y="0"/>
            <a:ext cx="1487520" cy="1700280"/>
          </a:xfrm>
          <a:prstGeom prst="rect">
            <a:avLst/>
          </a:prstGeom>
          <a:ln w="0">
            <a:noFill/>
          </a:ln>
        </p:spPr>
      </p:pic>
      <p:sp>
        <p:nvSpPr>
          <p:cNvPr id="49" name="WordArt 8"/>
          <p:cNvSpPr txBox="1"/>
          <p:nvPr/>
        </p:nvSpPr>
        <p:spPr>
          <a:xfrm>
            <a:off x="3276720" y="2421000"/>
            <a:ext cx="275112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D`OH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pic>
        <p:nvPicPr>
          <p:cNvPr id="50" name="Picture 10" descr="is?ZMZP9CAarwzyJKLwifZrorlBZ1L3qy-QOKiywBEOat4"/>
          <p:cNvPicPr/>
          <p:nvPr/>
        </p:nvPicPr>
        <p:blipFill>
          <a:blip r:embed="rId4"/>
          <a:stretch/>
        </p:blipFill>
        <p:spPr>
          <a:xfrm>
            <a:off x="4500720" y="0"/>
            <a:ext cx="1670040" cy="234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2" descr="is?f8aR78haGzeZAHoKaaVGYMG84vH0OWE9hctrNOFPXRM"/>
          <p:cNvPicPr/>
          <p:nvPr/>
        </p:nvPicPr>
        <p:blipFill>
          <a:blip r:embed="rId5"/>
          <a:stretch/>
        </p:blipFill>
        <p:spPr>
          <a:xfrm>
            <a:off x="6156360" y="0"/>
            <a:ext cx="380376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4" descr="is?I2eT1Eb9oJ_FZssgzQRAOLzvKGe8tbUFQ7Sz7OIdk-w"/>
          <p:cNvPicPr/>
          <p:nvPr/>
        </p:nvPicPr>
        <p:blipFill>
          <a:blip r:embed="rId6"/>
          <a:stretch/>
        </p:blipFill>
        <p:spPr>
          <a:xfrm>
            <a:off x="0" y="4437000"/>
            <a:ext cx="196704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is?UH2-oAAojRC1ANVsJe-vmG8eeA6dy-GuQO5rwQiUuXM"/>
          <p:cNvPicPr/>
          <p:nvPr/>
        </p:nvPicPr>
        <p:blipFill>
          <a:blip r:embed="rId1"/>
          <a:stretch/>
        </p:blipFill>
        <p:spPr>
          <a:xfrm>
            <a:off x="4095720" y="2819520"/>
            <a:ext cx="952560" cy="1218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Homer Simpson - Lingerie"/>
          <p:cNvPicPr/>
          <p:nvPr/>
        </p:nvPicPr>
        <p:blipFill>
          <a:blip r:embed="rId2"/>
          <a:stretch/>
        </p:blipFill>
        <p:spPr>
          <a:xfrm>
            <a:off x="0" y="0"/>
            <a:ext cx="1009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3T23:48:57Z</dcterms:created>
  <dc:creator>Bannockburn</dc:creator>
  <dc:description/>
  <dc:language>en-US</dc:language>
  <cp:lastModifiedBy>Aaron Down</cp:lastModifiedBy>
  <dcterms:modified xsi:type="dcterms:W3CDTF">2009-03-28T07:09:40Z</dcterms:modified>
  <cp:revision>2</cp:revision>
  <dc:subject/>
  <dc:title>THE MAN </dc:title>
</cp:coreProperties>
</file>