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A16-65B2-4E1B-A9FA-1757077F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1C7-7E72-491F-B4C0-0C104D1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795-89E3-47E7-8972-605CAA76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3C2-03C6-43EF-B444-A874563A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6F2-CE8B-4B46-8E3D-54BEE137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803-FC78-4636-B75D-B834F4F4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EA8-0A59-4C88-9856-3C7F9451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3A3-DE83-479A-85BE-82DD222E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245-CC5E-4DCF-9F88-3B4C1D4D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165-3BE5-45C0-9BB3-17DFE909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A67-853E-4D86-8299-F92E7C6A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5D6-AB4F-4F2F-ACA8-B0A69C47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A753-9AD3-4699-817E-B9C6C6B07CC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animationblog.com/2007/07/11/simpsons-family-guy-season-premiere-dates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u.ua.es/j/jmn4/simpson.htm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rethings.com/fan/simpsons/photo_gallery001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noot.org/f/a/s/wuss/cdetail/35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M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 IS 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s?4TCYmPqL9hhgOjq0B5J-X_EYR8OgztQsDXWaPvOxkI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233880" cy="328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s?D25NSsBjpGUpcclN4ODMvoc2P4FfgkIwYbYmNRjhOc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765000"/>
            <a:ext cx="4824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s?-uVIMrz5r5JyC45zQ20yVlK1boxT_iYi9lXDOZVkcx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84360" y="4221000"/>
            <a:ext cx="44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nuts mmmmmmmmmmmmmmmmmmmmmmmmmmmmmmmmmm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omer2"/>
          <p:cNvPicPr/>
          <p:nvPr/>
        </p:nvPicPr>
        <p:blipFill>
          <a:blip r:embed="rId1"/>
          <a:stretch/>
        </p:blipFill>
        <p:spPr>
          <a:xfrm>
            <a:off x="0" y="0"/>
            <a:ext cx="2973240" cy="4416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is?VOcT4eHwRs6LioX16qCCl9_ZICopHhJcukwSseq-4X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0"/>
            <a:ext cx="1487520" cy="1700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3276720" y="2421000"/>
            <a:ext cx="275112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`OH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0" name="Picture 10" descr="is?ZMZP9CAarwzyJKLwifZrorlBZ1L3qy-QOKiywBEOat4"/>
          <p:cNvPicPr/>
          <p:nvPr/>
        </p:nvPicPr>
        <p:blipFill>
          <a:blip r:embed="rId4"/>
          <a:stretch/>
        </p:blipFill>
        <p:spPr>
          <a:xfrm>
            <a:off x="4500720" y="0"/>
            <a:ext cx="167004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is?f8aR78haGzeZAHoKaaVGYMG84vH0OWE9hctrNOFPXRM"/>
          <p:cNvPicPr/>
          <p:nvPr/>
        </p:nvPicPr>
        <p:blipFill>
          <a:blip r:embed="rId5"/>
          <a:stretch/>
        </p:blipFill>
        <p:spPr>
          <a:xfrm>
            <a:off x="6156360" y="0"/>
            <a:ext cx="38037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is?I2eT1Eb9oJ_FZssgzQRAOLzvKGe8tbUFQ7Sz7OIdk-w"/>
          <p:cNvPicPr/>
          <p:nvPr/>
        </p:nvPicPr>
        <p:blipFill>
          <a:blip r:embed="rId6"/>
          <a:stretch/>
        </p:blipFill>
        <p:spPr>
          <a:xfrm>
            <a:off x="0" y="4437000"/>
            <a:ext cx="19670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s?UH2-oAAojRC1ANVsJe-vmG8eeA6dy-GuQO5rwQiUuXM"/>
          <p:cNvPicPr/>
          <p:nvPr/>
        </p:nvPicPr>
        <p:blipFill>
          <a:blip r:embed="rId1"/>
          <a:stretch/>
        </p:blipFill>
        <p:spPr>
          <a:xfrm>
            <a:off x="4095720" y="2819520"/>
            <a:ext cx="95256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omer Simpson - Lingerie"/>
          <p:cNvPicPr/>
          <p:nvPr/>
        </p:nvPicPr>
        <p:blipFill>
          <a:blip r:embed="rId2"/>
          <a:stretch/>
        </p:blipFill>
        <p:spPr>
          <a:xfrm>
            <a:off x="0" y="0"/>
            <a:ext cx="1009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3:48:57Z</dcterms:created>
  <dc:creator>Bannockburn</dc:creator>
  <dc:description/>
  <dc:language>en-US</dc:language>
  <cp:lastModifiedBy>Aaron Down</cp:lastModifiedBy>
  <dcterms:modified xsi:type="dcterms:W3CDTF">2009-03-28T07:09:40Z</dcterms:modified>
  <cp:revision>2</cp:revision>
  <dc:subject/>
  <dc:title>THE MAN </dc:title>
</cp:coreProperties>
</file>